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9BE9A-0F90-4F61-A702-198F3CA7D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A373F-693E-4B90-BF8B-269598E83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41D82-D5A6-4845-AD9C-F7FDCF1E4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210FF-B332-449B-8451-E5C53544A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D50F3-4E1A-4863-B3DE-F88F97083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B083-00B9-46A8-A7F8-0812C30A6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C24EF-C883-4B39-BD96-1FC1B5B54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7B74E-2750-48D9-A595-06B239011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5A275-2615-4184-A05D-98B265210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9ABF9-ED77-4992-B4CE-C903A508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CB11F-19FF-49D5-9A0D-DD0DE0C93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475F-5D67-4B23-9BE2-27E510FF1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9891-63F0-4BD8-9AFF-A284C61A0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116000" y="1844640"/>
            <a:ext cx="7000920" cy="254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3"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LANAK</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ffff"/>
                </a:solidFill>
                <a:latin typeface="Kristen ITC"/>
              </a:rPr>
              <a:t>Imigrante gehienak Espainiara etortzen dira lana bilatzeko. Kamarero bezala edo nagusiak zaintzen lan egiten dute. Inmigrante batzuk bere herrietan medikuak edo lan inportanteak zituzten, baina hemen Espainian lan kaskarrekin konformatu behar dira. G.K.E askok   inmigranteak laguntzen dituzte, batez ere,emakume imigranteei laguntzen diete lana aurkitz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an lan egiten duten inmigrante gehienengoak, gizonak dira. Gutxiengoak, ordea, emakumeak di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kl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47"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Kristen ITC"/>
              </a:rPr>
              <a:t>Guatemalan Gabon Gaba gau berezi bat da. Guatemaltarrek familiarekin biltzen dira. Afaldu baino lehen otoitz egiten dute, kanpoan suziriak entzuten diren bitartean. Opariak zabaltzen direnean danak abesten eta dantzatzen hasten dira. Afariko janaria bertako tradizionala da. Tamalak eta ponchea hartzen dut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Kubako, gaur egungo, belaunanldiek aiton-amonei galdetu behar diete Gabonei buruz, haiek ez baitute tradizio hau bizi.</a:t>
            </a:r>
            <a:br>
              <a:rPr sz="2400"/>
            </a:br>
            <a:br>
              <a:rPr sz="2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EKONO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ffffff"/>
                </a:solidFill>
                <a:latin typeface="Kristen ITC"/>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Kristen ITC"/>
              </a:rPr>
              <a:t>   </a:t>
            </a:r>
            <a:r>
              <a:rPr b="0" lang="eu-ES" sz="2400" spc="-1" strike="noStrike">
                <a:solidFill>
                  <a:srgbClr val="000000"/>
                </a:solidFill>
                <a:latin typeface="Kristen ITC"/>
              </a:rPr>
              <a:t>Espainiako inmigrazioaren alderdi bat kontuan hartu behar da. Ez da diskriminatu behar baizik eta justizia egin. 300 urtetan zehar Espainiak gaur egungo Nazio Iberoamerikarretan garrantzia izan du. XX mendean zehar eta, bereziki, gerra zibilean herrialde horiek Espainiako etorkin asko hartu zituzten. Horregatik, gaur egun, haiek etortzean guk ere harrera ona egitearen betebeharra daukagu.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Ondorioa oso argia da: Espainiak bere ongizatea neurri handian inmigrazioari zor dio. Ondorio onuragarri horiek alde kaltegarria ere izan dezakete, baldin eta ez bagara gauza inmigrante berrien sarrera kontrolatzeko eta arrazionalizatzeko, eta hemen bizi direnen integrazioa hobetzeko. Espainiaren harrera ahalmena, munduko beste herrialde guztiena bezala, ez baita mugagabea. 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18T06:43:59Z</dcterms:modified>
  <cp:revision>5</cp:revision>
  <dc:subject/>
  <dc:title>Diapositiva 1</dc:title>
</cp:coreProperties>
</file>